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8D3-0840-46A3-A499-2A210D62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C8F-FD7D-4C97-BC65-5028E2BB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C41-92BE-40EC-BFE8-D5BCDBC9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2DE-F8E5-4BD1-884A-D1929212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368-150D-432E-8DA3-9A41308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2D4-A09A-422A-ADE8-1362767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8A8-E3C8-4C31-AC47-54A1B9C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AC2-E236-4A8E-99FB-687759FD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D8C-3C43-4096-A577-D4196DF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141-8384-4C87-8A91-98D8B37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C4B-5BDC-434F-917D-67CE76B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891-39C8-48AC-A4BC-C491950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E188-B8AD-4C01-81D7-73AB6B6B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sinfo.state.gov/products/pubs/marshallplan/" TargetMode="External"/><Relationship Id="rId3" Type="http://schemas.openxmlformats.org/officeDocument/2006/relationships/hyperlink" Target="http://www.cnn.com/SPECIALS/cold.war/episodes/20/spotlight/" TargetMode="External"/><Relationship Id="rId4" Type="http://schemas.openxmlformats.org/officeDocument/2006/relationships/hyperlink" Target="http://www.vietnampix.com/intro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Cold 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an Flo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rl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752480"/>
            <a:ext cx="3886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1, the Berlin Wall was built to isolate West Berlin from Soviet territo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all also separated West Berlin from East Germ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all was built because of econom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881520"/>
            <a:ext cx="3657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all was built because of poli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est interfered with the East. (US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ucation was free in the East but cost money in the West.  Students would go to school in the East and then move to the West to work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57200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mber 9, 1989 East Berliners flocked to the Wall and demanded to go to the W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ards couldn’t stop them and the Berliners tore the Wall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6576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berlin-wall.org/bilder/b_mur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27860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ylor, David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Cold War. Heinemann Library, Chicago, I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shall Plan,”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sinfo.state.gov/products/pubs/marshallpl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 Olympic Boycotts,”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nn.com/SPECIALS/cold.war/episodes/20/spotligh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etnam War,”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vietnampix.com/intro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putnik to NDEA,” http://www.gtexts.com/college/papers/j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 War International History Project,” http://www.wilsoncenter.org/index.cfm?fuseaction=topics.home&amp;topic_id=1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the Berlin Wall was Built,” http://www.berlinermauer.se/BerlinWall/byg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erlin Wall Official Homepage,” http://www.berlinermauer.se/BerlinWall/byg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ld War Museum,” http://www.coldwar.org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was the Cold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as the time between 1945 and 1989 when the United States and the Soviet Union and their allies were involved in a conflict known as “The Cold War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there were confrontations between the two countries, but traditional weapons were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fore the 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countries were destroyed by WW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48, President Truman signed the act that became the Marshall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designed to help rebuild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d for US Secretary of State George C. Marshall who came up with the idea to help the countries that had been destroyed by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believed that people who were not hungry and traded with each other would not be as likely to go to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orts and the Olym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7524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 Olympics boycotted by United States and many allies (60 t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 Olympics boycotted by Russia and many of their all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8769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ition carried into music competitions and even into chess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147492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3600" y="37339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2008.cns.com.cn/new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6002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ia Comaneci, Romanian gymn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4267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Jor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8672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picasaweb.google.com/clroger/USABasketballTeamsThroughTheYe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ountry wanted to be the first to put a man into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SR succeeded in 1957 when Yuri Gagarin was the first man in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4956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John Glenn was first man to orbit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s Armstrong and Aldin were first men on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3505320"/>
            <a:ext cx="38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starchild.gsfc.nasa.gov/docs/StarChild/whos_who_level2/gagarin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uri Gag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1981080" cy="171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411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spaceflight.nasa.gov/gallery/images/shuttle/sts-95/html/98_0686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4495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Gl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mportance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75248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ying became very important in order to keep track of what each country knew about the other 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es were trading information about atomic weap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57200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ator Joseph McCarthy began his hunt for commun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used many actors and writers to lose jobs—McCarthy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1176480" cy="1752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4343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ph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617220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09588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spartacus.schoolnet.co.uk/USAmccarth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057320" cy="218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16765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nox camera used by spies to photograph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4290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cnn.com/SPECIALS/cold.war/experience/spies/spy.gadgets/frames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75248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 started in June, 1950 when North Korean troops invaded South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eptember, 1950, the United Nations sent soldiers from sixteen countries to help South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464832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ase-fire was agreed on in 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 caused even more strained relations between Russia and Ame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91120"/>
            <a:ext cx="3581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nese troops got involved in the war when the UN forces got too close to the Chinese b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ident Truman wanted the war to end once the North Korean troops were pushed to the 3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rall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35268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history.army.mil/photos/Korea/kor1950/kor195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2438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52480"/>
            <a:ext cx="38862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2 a spy plane flew over Cuba and photographed the building of Soviet nuclear missile 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ident Kennedy decided to block ships going to Cu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edy and Soviet Premier Khrushchev had a battle of words about the missile bases and the block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9528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ers decided that US would not invade Cuba and USSR would remove the missile bases in Cu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r war was avo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6576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hitehouse.gov/history/presidents/jk35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60520" cy="218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609588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nn.com/SPECIALS/cold.war/kbank/profiles/khrushche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447920" y="4419720"/>
            <a:ext cx="13921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Vietnam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388620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ident Kennedy sent troops to Vietnam in 1962 to stop the spread of the North Vietnamese (Vietco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5 Congress gave President Johnson permission to step up the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hting was hard because the Vietcong didn’t wear unifor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11480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809880"/>
            <a:ext cx="40388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9 President Nixon promised to scale down the United State’s involvement in the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73 the Paris Peace Agreement was signed that ended American’s participation in the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orth Vietnamese troops took over South Vietnam and it became a communist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00160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24280" y="6095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vietnampix.com/intro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05:25Z</dcterms:created>
  <dc:creator> Wes and Sue Florence</dc:creator>
  <dc:description/>
  <dc:language>en-US</dc:language>
  <cp:lastModifiedBy> Wes and Sue Florence</cp:lastModifiedBy>
  <dcterms:modified xsi:type="dcterms:W3CDTF">2008-02-27T02:34:17Z</dcterms:modified>
  <cp:revision>26</cp:revision>
  <dc:subject/>
  <dc:title>The Cold War</dc:title>
</cp:coreProperties>
</file>